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9.png" ContentType="image/png"/>
  <Override PartName="/ppt/media/image17.png" ContentType="image/png"/>
  <Override PartName="/ppt/media/image28.png" ContentType="image/png"/>
  <Override PartName="/ppt/media/image1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AB3D-ABE5-4BE9-8CAE-3C1ABBAF9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7560-9465-4C8D-9324-219077577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BB6F-3305-489A-813E-B1666582D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9EFB-C871-423A-A7C6-2174A9705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F6617-B72F-4D79-90D4-0B9415DE4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D0F8A-966C-4075-9B5F-8B6677234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158E2-4E3D-4FA9-B2AE-E3EBB395C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027C7-53BA-4CEE-AB5A-BE68B5692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7A123-E764-48E7-A227-9DFEDE048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CB10D-0E7B-4FC5-9003-0AEF4EF64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343DD-D11E-49D5-9C2F-440EBD59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BB9D-89E0-4C12-944E-200027CA1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6CAC5-6327-421F-88B6-71205F2F8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7F0D2-9B7B-4280-A9EC-DC77E63CC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89322-304C-4A37-94BF-11FD1D991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E8093-2046-437C-A8BB-5730AB91E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F6331-1DB5-4B39-84E6-D851CFC84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90CAA-2DC6-459B-A34A-F5EE456D3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C0AF8-1CDE-4544-A75E-D8296C57A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C5F6C-1887-40F7-B75D-EE71CCFAB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D8770-E2DB-4C8E-A813-4C88A759A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452EE-09ED-496B-8C63-913F9C49A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F0D1-FF79-4D83-BE46-69DFB36B9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42B0B-EC68-461C-BC64-7188AFB33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60B69-E6F6-4CA3-B366-1B505405A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5290D-8D61-4DDF-A713-9D145FD2D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64D52-0464-4826-A807-807FAEE61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5ECFB-0E18-4EFA-95D2-C453DD2F5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96C2D-4B28-4E31-A7A0-116273F42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75D00-847E-4B36-9F1A-CB7DEA91A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1CCCD-F87B-4781-A630-22694E70E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F6E58-5C78-461D-943B-BAB8FBC45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5D4BE-109E-4356-9AB3-E6D46A9F2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80DD-81D0-4986-B7D0-4E08A49BD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69FBD-4325-4FD2-8C68-4004DB666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89DF5-677B-4A2B-8980-33D9ACD80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2D469-30AF-4991-BB7F-87F97473F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82A26-6945-4148-A22A-0F06E6AB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78063-1339-4474-BE26-C3BE72ED5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C35DD-B415-4C34-8EB9-7DA0BB563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B3353-D2B5-43F4-B717-AFC6B840E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538BF-697D-4486-A914-60D44855C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A3F3A-1050-4BD9-B62E-476D659D6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C93503-598C-4A58-9BB0-8FD24793C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7C0D-46EE-4A15-B8AB-AFA671163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9BCEAE-F444-45B7-84DC-5AA3F810E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1916C9-FD3F-49DB-8A00-536857EE4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600DE-ECCE-48D7-9670-0A31E298C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342340-933D-4053-9445-08585090A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4DBA5-1B30-4349-8C3C-7266273F1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6840DD-8A14-49D6-AD3F-00D656CD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9715DD-B0DB-4963-82C1-611F4D99E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2FD0E-916E-43F8-A33C-7D9DBC9F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0ACE3-65AF-4209-8B0E-BA64DF616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B2651-57D9-47D8-ACC1-0AE147338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66CF-C0A5-4D5E-AD85-830244110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7C54A7-0CAC-4766-AD44-C19DB6107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02F455-AF49-4B0D-89C8-2F1369DF7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25DD3C-A674-4309-A7EE-8CC719B8C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E902E0-FDEB-4C15-AAE9-04889041D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3EB4EE-EB61-4750-863C-931E080CC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3FCEB7-7DA5-4D15-88E7-381DA8987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702BB9-8510-4D6B-B53A-79B2839AD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295AB5-3E83-418F-8DC5-60331EAC7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5B1505-E80D-4C58-A9BA-B54D0581E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3AF365-AACF-4B9C-A124-5B1E3CF0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1518-B1B8-4392-9B48-8008176F1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1057FC-67DA-420C-A445-07B6314F3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984AF0-40DF-4257-B4C5-1FC9585B3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2B408C-20E0-4826-89AA-19872DF15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ECCF2F-A432-40B1-B91F-04C4D079F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01DD15-0168-4AE0-A0C3-F15F3E184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F29717-FC1E-4BD0-BF68-3C89E0B82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8D60F7-807E-4A58-BC9E-FE7FEF448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DB9CE7-E387-4567-8CF1-C7CD2B0C5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B3E45B-B7FA-487A-BC38-DC19EFFA4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6356D4-4E90-4941-A12E-710AE55D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16D6-F418-4FD4-B390-94EC90D66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B6286B-FD79-4AD6-8ACE-7A508A754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9132DD-807A-4FA9-8720-E01A130D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EA7840-0AAF-445D-92A6-953B0E96B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A02F66-EDAA-4E39-81F5-7747AECBD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42F5B4-1FFF-4E5D-8FD3-10E6AD931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40C43C-E4BE-480F-8A05-52C5A3A29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672E64-A227-4031-A3D8-7F70653BA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89EDC9-EBE5-4ED0-8340-9A4973D49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3BCE64-E77B-417E-9405-CA92943D6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F85F9A-9E72-4771-BA3C-AC220C837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BCA4-89F0-47FB-8560-584F42441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CB94FE-4440-48DB-91D7-7DAA44C79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683447-ADA5-4C28-A39B-04F58DF22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337ACD-FF1C-4F90-9660-BD49C056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DB77AB-9E63-4BD2-A5E7-FC9C58B64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F25D4E-E095-4054-BD50-9E4EC126B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1486AD-0F98-4846-B33A-0D746AB1A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711F37-0B0E-44D8-B509-E9E05CA98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E04D7-75F7-402B-92E0-822AD609C525}" type="slidenum"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FC2E7-65AA-47D0-95AD-876F82BA0620}" type="slidenum">
              <a:rPr b="0" lang="en-A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DBFD4-DD37-4680-93EC-B3F341A81925}" type="slidenum"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4FB64-3C28-4385-8483-495E03904770}" type="slidenum"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9D51A-75D7-4832-83C8-6BA86F2A7B63}" type="slidenum"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1FEF5-778E-4049-B8C2-7F14C5E73C24}" type="slidenum"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67481-FD42-4282-97B1-41A61CFBE2C0}" type="slidenum"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8E302-6277-42BC-A0CD-B57FA7D7917E}" type="slidenum">
              <a:rPr b="0" lang="en-A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5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884160" y="420840"/>
            <a:ext cx="7766280" cy="52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long and rambling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I woke up to find that I had grown long beautiful hair and was wearing a fantastic new ball gown and the crown had changed to be made of silver and when I ran to look out of the window I was looking at a completely new place and there were horses and glittering streams and birds all over the place and I was extremely happy about all that but I did not know anyone there at all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ragme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Because I went there.</a:t>
            </a: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In the</a:t>
            </a: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ountains during winter and just before the snow begins to fall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Verb erro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The crystal  broken. (was broken, is broken, will be, can’t be, brok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He must of gone to the shop. (must have)</a:t>
            </a:r>
            <a:r>
              <a:rPr b="0" i="1" lang="en-US" sz="2700" spc="-1" strike="noStrike">
                <a:solidFill>
                  <a:srgbClr val="ff8119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Lucida Sans Unicode"/>
              </a:rPr>
              <a:t>is an independent claus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Lucida Sans Unicode"/>
              </a:rPr>
              <a:t>can stand on its own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Lucida Sans Unicode"/>
              </a:rPr>
              <a:t>makes complete sens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Lucida Sans Unicode"/>
              </a:rPr>
              <a:t>has only one verb or verb group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  <a:ea typeface="Arial"/>
              </a:rPr>
              <a:t>The clause conveys a messag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  <a:ea typeface="Arial"/>
              </a:rPr>
              <a:t>what is happening, who is taking part and the circumstances surrounding the action </a:t>
            </a:r>
            <a:r>
              <a:rPr b="0" i="1" lang="en-AU" sz="3600" spc="-1" strike="noStrike">
                <a:solidFill>
                  <a:srgbClr val="000000"/>
                </a:solidFill>
                <a:latin typeface="Arial"/>
                <a:ea typeface="Arial"/>
              </a:rPr>
              <a:t>(how, when, where, why)</a:t>
            </a:r>
            <a:r>
              <a:rPr b="1" lang="en-AU" sz="3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  <a:ea typeface="Arial"/>
              </a:rPr>
              <a:t>eg 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  <a:ea typeface="Arial"/>
              </a:rPr>
              <a:t>The students from Year 4 at Dee Why PS travelled to the Powerhouse Museum today by bu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  <a:ea typeface="Arial"/>
              </a:rPr>
              <a:t>Select the simple sentences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214200" y="1213920"/>
            <a:ext cx="878688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00000"/>
                </a:solidFill>
                <a:latin typeface="Arial"/>
                <a:ea typeface="Arial"/>
              </a:rPr>
              <a:t>Which of the following are simple sentences (independent clauses):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  <a:ea typeface="Arial"/>
              </a:rPr>
              <a:t>walking to the shop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  <a:ea typeface="Arial"/>
              </a:rPr>
              <a:t>the boy with the blue jumper  ran down the street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  <a:ea typeface="Arial"/>
              </a:rPr>
              <a:t>the boy wearing the blue jumper ran down the street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  <a:ea typeface="Arial"/>
              </a:rPr>
              <a:t>the noise that came from the factory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  <a:ea typeface="Arial"/>
              </a:rPr>
              <a:t>having been to the fish market this morning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  <a:ea typeface="Arial"/>
              </a:rPr>
              <a:t>the delicious aroma of baked bread from the bakery across the street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  <a:ea typeface="Arial"/>
              </a:rPr>
              <a:t>that large, vicious dog with shaggy hair keeps on chasing the poor postman away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213840" y="1142640"/>
            <a:ext cx="864396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0000"/>
                </a:solidFill>
                <a:latin typeface="Arial"/>
                <a:ea typeface="Arial"/>
              </a:rPr>
              <a:t>The </a:t>
            </a:r>
            <a:r>
              <a:rPr b="1" i="1" lang="en-AU" sz="3200" spc="-1" strike="noStrike">
                <a:solidFill>
                  <a:srgbClr val="ff0000"/>
                </a:solidFill>
                <a:latin typeface="Arial"/>
                <a:ea typeface="Arial"/>
              </a:rPr>
              <a:t>verb</a:t>
            </a:r>
            <a:r>
              <a:rPr b="0" lang="en-AU" sz="3200" spc="-1" strike="noStrike">
                <a:solidFill>
                  <a:srgbClr val="ff0000"/>
                </a:solidFill>
                <a:latin typeface="Arial"/>
                <a:ea typeface="Arial"/>
              </a:rPr>
              <a:t> is the engine house of our language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01" name="Text Box 6"/>
          <p:cNvSpPr/>
          <p:nvPr/>
        </p:nvSpPr>
        <p:spPr>
          <a:xfrm>
            <a:off x="357120" y="1785960"/>
            <a:ext cx="8460000" cy="119124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Verbs are the basis of any message communicated. They provide movement or action or a sense of what is happe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3"/>
          <p:cNvSpPr/>
          <p:nvPr/>
        </p:nvSpPr>
        <p:spPr>
          <a:xfrm>
            <a:off x="857160" y="2786040"/>
            <a:ext cx="691200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re are different types of ver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Action verbs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(They</a:t>
            </a:r>
            <a:r>
              <a:rPr b="1" i="1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AU" sz="2400" spc="-1" strike="noStrike" u="sng">
                <a:solidFill>
                  <a:srgbClr val="000000"/>
                </a:solidFill>
                <a:uFillTx/>
                <a:latin typeface="Arial"/>
              </a:rPr>
              <a:t>danced</a:t>
            </a:r>
            <a:r>
              <a:rPr b="1" i="1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all nigh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Saying verbs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(He</a:t>
            </a:r>
            <a:r>
              <a:rPr b="1" i="1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AU" sz="2400" spc="-1" strike="noStrike" u="sng">
                <a:solidFill>
                  <a:srgbClr val="000000"/>
                </a:solidFill>
                <a:uFillTx/>
                <a:latin typeface="Arial"/>
              </a:rPr>
              <a:t>whispered</a:t>
            </a:r>
            <a:r>
              <a:rPr b="1" i="1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softly.)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Thinking verbs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(She </a:t>
            </a:r>
            <a:r>
              <a:rPr b="0" i="1" lang="en-AU" sz="2400" spc="-1" strike="noStrike" u="sng">
                <a:solidFill>
                  <a:srgbClr val="000000"/>
                </a:solidFill>
                <a:uFillTx/>
                <a:latin typeface="Arial"/>
              </a:rPr>
              <a:t>forgot</a:t>
            </a:r>
            <a:r>
              <a:rPr b="1" i="1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his name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Feeling verbs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(Sarah</a:t>
            </a:r>
            <a:r>
              <a:rPr b="1" i="1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AU" sz="2400" spc="-1" strike="noStrike" u="sng">
                <a:solidFill>
                  <a:srgbClr val="000000"/>
                </a:solidFill>
                <a:uFillTx/>
                <a:latin typeface="Arial"/>
              </a:rPr>
              <a:t>likes</a:t>
            </a:r>
            <a:r>
              <a:rPr b="1" i="1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baked bean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Relating verbs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(Cows</a:t>
            </a:r>
            <a:r>
              <a:rPr b="1" i="1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AU" sz="2400" spc="-1" strike="noStrike" u="sng">
                <a:solidFill>
                  <a:srgbClr val="000000"/>
                </a:solidFill>
                <a:uFillTx/>
                <a:latin typeface="Arial"/>
              </a:rPr>
              <a:t>are</a:t>
            </a:r>
            <a:r>
              <a:rPr b="1" i="1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herbivorou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9"/>
          <p:cNvSpPr/>
          <p:nvPr/>
        </p:nvSpPr>
        <p:spPr>
          <a:xfrm>
            <a:off x="7143840" y="4643280"/>
            <a:ext cx="288720" cy="720720"/>
          </a:xfrm>
          <a:custGeom>
            <a:avLst/>
            <a:gdLst>
              <a:gd name="textAreaLeft" fmla="*/ 0 w 288720"/>
              <a:gd name="textAreaRight" fmla="*/ 104040 w 28872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8"/>
          <p:cNvSpPr/>
          <p:nvPr/>
        </p:nvSpPr>
        <p:spPr>
          <a:xfrm>
            <a:off x="7400880" y="4869000"/>
            <a:ext cx="173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(sensing verb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12" descr=""/>
          <p:cNvPicPr/>
          <p:nvPr/>
        </p:nvPicPr>
        <p:blipFill>
          <a:blip r:embed="rId2"/>
          <a:stretch/>
        </p:blipFill>
        <p:spPr>
          <a:xfrm rot="20716800">
            <a:off x="3725640" y="5697360"/>
            <a:ext cx="523800" cy="71928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11"/>
          <p:cNvSpPr/>
          <p:nvPr/>
        </p:nvSpPr>
        <p:spPr>
          <a:xfrm>
            <a:off x="4362480" y="5857920"/>
            <a:ext cx="455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000000"/>
                </a:solidFill>
                <a:latin typeface="Arial"/>
              </a:rPr>
              <a:t>Ref “A Grammar Companion” pages 54-60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2" descr=""/>
          <p:cNvPicPr/>
          <p:nvPr/>
        </p:nvPicPr>
        <p:blipFill>
          <a:blip r:embed="rId1"/>
          <a:stretch/>
        </p:blipFill>
        <p:spPr>
          <a:xfrm>
            <a:off x="1195560" y="0"/>
            <a:ext cx="675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457200" y="121392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000000"/>
                </a:solidFill>
                <a:latin typeface="Arial"/>
                <a:ea typeface="Arial"/>
              </a:rPr>
              <a:t>A verb/verb group may consist of a single word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  <a:ea typeface="Arial"/>
              </a:rPr>
              <a:t>eg He </a:t>
            </a:r>
            <a:r>
              <a:rPr b="0" i="1" lang="en-AU" sz="2800" spc="-1" strike="noStrike">
                <a:solidFill>
                  <a:srgbClr val="000000"/>
                </a:solidFill>
                <a:latin typeface="Arial"/>
                <a:ea typeface="Arial"/>
              </a:rPr>
              <a:t>wrote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  <a:ea typeface="Arial"/>
              </a:rPr>
              <a:t> the letter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AU" sz="3000" spc="-1" strike="noStrike">
                <a:solidFill>
                  <a:srgbClr val="000000"/>
                </a:solidFill>
                <a:latin typeface="Arial"/>
                <a:ea typeface="Arial"/>
              </a:rPr>
              <a:t>or a number of words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AU" sz="3000" spc="-1" strike="noStrike">
                <a:solidFill>
                  <a:srgbClr val="000000"/>
                </a:solidFill>
                <a:latin typeface="Arial"/>
                <a:ea typeface="Arial"/>
              </a:rPr>
              <a:t>eg I </a:t>
            </a:r>
            <a:r>
              <a:rPr b="0" i="1" lang="en-AU" sz="3000" spc="-1" strike="noStrike">
                <a:solidFill>
                  <a:srgbClr val="000000"/>
                </a:solidFill>
                <a:latin typeface="Arial"/>
                <a:ea typeface="Arial"/>
              </a:rPr>
              <a:t>will be going </a:t>
            </a:r>
            <a:r>
              <a:rPr b="0" lang="en-AU" sz="3000" spc="-1" strike="noStrike">
                <a:solidFill>
                  <a:srgbClr val="000000"/>
                </a:solidFill>
                <a:latin typeface="Arial"/>
                <a:ea typeface="Arial"/>
              </a:rPr>
              <a:t>to the shop.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AU" sz="3000" spc="-1" strike="noStrike">
                <a:solidFill>
                  <a:srgbClr val="000000"/>
                </a:solidFill>
                <a:latin typeface="Arial"/>
                <a:ea typeface="Arial"/>
              </a:rPr>
              <a:t>eg He </a:t>
            </a:r>
            <a:r>
              <a:rPr b="0" i="1" lang="en-AU" sz="3000" spc="-1" strike="noStrike">
                <a:solidFill>
                  <a:srgbClr val="000000"/>
                </a:solidFill>
                <a:latin typeface="Arial"/>
                <a:ea typeface="Arial"/>
              </a:rPr>
              <a:t>might have been going to talk</a:t>
            </a:r>
            <a:r>
              <a:rPr b="0" lang="en-AU" sz="3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AU" sz="3000" spc="-1" strike="noStrike">
                <a:solidFill>
                  <a:srgbClr val="000000"/>
                </a:solidFill>
                <a:latin typeface="Arial"/>
                <a:ea typeface="Arial"/>
              </a:rPr>
              <a:t>eg They </a:t>
            </a:r>
            <a:r>
              <a:rPr b="0" i="1" lang="en-AU" sz="3000" spc="-1" strike="noStrike">
                <a:solidFill>
                  <a:srgbClr val="000000"/>
                </a:solidFill>
                <a:latin typeface="Arial"/>
                <a:ea typeface="Arial"/>
              </a:rPr>
              <a:t>were doing </a:t>
            </a:r>
            <a:r>
              <a:rPr b="0" lang="en-AU" sz="3000" spc="-1" strike="noStrike">
                <a:solidFill>
                  <a:srgbClr val="000000"/>
                </a:solidFill>
                <a:latin typeface="Arial"/>
                <a:ea typeface="Arial"/>
              </a:rPr>
              <a:t>their homework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ff0000"/>
                </a:solidFill>
                <a:latin typeface="Arial"/>
                <a:ea typeface="Arial"/>
              </a:rPr>
              <a:t>Activity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ff0000"/>
                </a:solidFill>
                <a:latin typeface="Arial"/>
                <a:ea typeface="Arial"/>
              </a:rPr>
              <a:t>Select the verb/verb groups from the passage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9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457200" y="1142640"/>
            <a:ext cx="8229600" cy="48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  <a:ea typeface="Arial"/>
              </a:rPr>
              <a:t>Focus on the author’s use of 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  <a:ea typeface="Arial"/>
              </a:rPr>
              <a:t>alternative verbs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  <a:ea typeface="Arial"/>
              </a:rPr>
              <a:t> for common words such as </a:t>
            </a:r>
            <a:r>
              <a:rPr b="0" i="1" lang="en-AU" sz="3200" spc="-1" strike="noStrike">
                <a:solidFill>
                  <a:srgbClr val="000000"/>
                </a:solidFill>
                <a:latin typeface="Arial"/>
                <a:ea typeface="Arial"/>
              </a:rPr>
              <a:t>said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AU" sz="3200" spc="-1" strike="noStrike">
                <a:solidFill>
                  <a:srgbClr val="000000"/>
                </a:solidFill>
                <a:latin typeface="Arial"/>
                <a:ea typeface="Arial"/>
              </a:rPr>
              <a:t>walked 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  <a:ea typeface="Arial"/>
              </a:rPr>
              <a:t>etc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  <a:ea typeface="Arial"/>
              </a:rPr>
              <a:t>Jointly develop a vocabulary cluster with the class, and prompt them to use these words in their own writing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  <a:ea typeface="Arial"/>
              </a:rPr>
              <a:t>e.g. Words for </a:t>
            </a:r>
            <a:r>
              <a:rPr b="1" i="1" lang="en-AU" sz="3200" spc="-1" strike="noStrike">
                <a:solidFill>
                  <a:srgbClr val="ff0000"/>
                </a:solidFill>
                <a:latin typeface="Arial"/>
                <a:ea typeface="Arial"/>
              </a:rPr>
              <a:t>walked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  <a:ea typeface="Arial"/>
              </a:rPr>
              <a:t>from first few pages of David Legge’s  </a:t>
            </a:r>
            <a:r>
              <a:rPr b="0" i="1" lang="en-AU" sz="3200" spc="-1" strike="noStrike">
                <a:solidFill>
                  <a:srgbClr val="000000"/>
                </a:solidFill>
                <a:latin typeface="Arial"/>
                <a:ea typeface="Arial"/>
              </a:rPr>
              <a:t>Rise and Shine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1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457200" y="178560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imple sentence has a verb, and the verb usually has a subject and object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3"/>
          <p:cNvSpPr/>
          <p:nvPr/>
        </p:nvSpPr>
        <p:spPr>
          <a:xfrm>
            <a:off x="428760" y="620640"/>
            <a:ext cx="824688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1" lang="en-AU" sz="3600" spc="-1" strike="noStrike">
                <a:solidFill>
                  <a:srgbClr val="000000"/>
                </a:solidFill>
                <a:latin typeface="Verdana"/>
              </a:rPr>
              <a:t>Vocabulary Cluster</a:t>
            </a:r>
            <a:r>
              <a:rPr b="1" lang="en-AU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Lucida Sans Unicode"/>
              </a:rPr>
              <a:t>came slos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Lucida Sans Unicode"/>
              </a:rPr>
              <a:t>          </a:t>
            </a:r>
            <a:r>
              <a:rPr b="1" lang="en-AU" sz="2800" spc="-1" strike="noStrike">
                <a:solidFill>
                  <a:srgbClr val="000000"/>
                </a:solidFill>
                <a:latin typeface="Lucida Sans Unicode"/>
              </a:rPr>
              <a:t>were l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Lucida Sans Unicode"/>
              </a:rPr>
              <a:t>dr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Lucida Sans Unicode"/>
              </a:rPr>
              <a:t>clo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Lucida Sans Unicode"/>
              </a:rPr>
              <a:t>strode                                          he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Lucida Sans Unicode"/>
              </a:rPr>
              <a:t>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Lucida Sans Unicode"/>
              </a:rPr>
              <a:t>                   </a:t>
            </a:r>
            <a:r>
              <a:rPr b="1" lang="en-AU" sz="2800" spc="-1" strike="noStrike">
                <a:solidFill>
                  <a:srgbClr val="000000"/>
                </a:solidFill>
                <a:latin typeface="Lucida Sans Unicode"/>
              </a:rPr>
              <a:t>reac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val 4"/>
          <p:cNvSpPr/>
          <p:nvPr/>
        </p:nvSpPr>
        <p:spPr>
          <a:xfrm>
            <a:off x="3276720" y="2924280"/>
            <a:ext cx="2735280" cy="1150920"/>
          </a:xfrm>
          <a:prstGeom prst="ellipse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al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5"/>
          <p:cNvSpPr/>
          <p:nvPr/>
        </p:nvSpPr>
        <p:spPr>
          <a:xfrm flipH="1" flipV="1">
            <a:off x="1908000" y="2060640"/>
            <a:ext cx="165600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9"/>
          <p:cNvSpPr/>
          <p:nvPr/>
        </p:nvSpPr>
        <p:spPr>
          <a:xfrm flipH="1" flipV="1">
            <a:off x="1499760" y="3285720"/>
            <a:ext cx="180036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6"/>
          <p:cNvSpPr/>
          <p:nvPr/>
        </p:nvSpPr>
        <p:spPr>
          <a:xfrm flipV="1">
            <a:off x="6012000" y="2785680"/>
            <a:ext cx="703080" cy="49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0"/>
          <p:cNvSpPr/>
          <p:nvPr/>
        </p:nvSpPr>
        <p:spPr>
          <a:xfrm flipH="1">
            <a:off x="1785600" y="3789360"/>
            <a:ext cx="1562040" cy="49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8"/>
          <p:cNvSpPr/>
          <p:nvPr/>
        </p:nvSpPr>
        <p:spPr>
          <a:xfrm flipH="1">
            <a:off x="3429000" y="4071960"/>
            <a:ext cx="72072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7"/>
          <p:cNvSpPr/>
          <p:nvPr/>
        </p:nvSpPr>
        <p:spPr>
          <a:xfrm>
            <a:off x="5572080" y="3929040"/>
            <a:ext cx="79380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2" name="Rectangle 3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3"/>
          <p:cNvSpPr/>
          <p:nvPr/>
        </p:nvSpPr>
        <p:spPr>
          <a:xfrm>
            <a:off x="428760" y="857160"/>
            <a:ext cx="822960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traight Connector 7"/>
          <p:cNvSpPr/>
          <p:nvPr/>
        </p:nvSpPr>
        <p:spPr>
          <a:xfrm flipV="1">
            <a:off x="2000160" y="2214720"/>
            <a:ext cx="5357880" cy="32860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8"/>
          <p:cNvSpPr/>
          <p:nvPr/>
        </p:nvSpPr>
        <p:spPr>
          <a:xfrm>
            <a:off x="4000680" y="3643200"/>
            <a:ext cx="914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wal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3"/>
          <p:cNvSpPr/>
          <p:nvPr/>
        </p:nvSpPr>
        <p:spPr>
          <a:xfrm>
            <a:off x="3359520" y="41432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2"/>
          <p:cNvSpPr/>
          <p:nvPr/>
        </p:nvSpPr>
        <p:spPr>
          <a:xfrm>
            <a:off x="2643120" y="4500720"/>
            <a:ext cx="10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au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0"/>
          <p:cNvSpPr/>
          <p:nvPr/>
        </p:nvSpPr>
        <p:spPr>
          <a:xfrm>
            <a:off x="2214720" y="4857840"/>
            <a:ext cx="78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t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9"/>
          <p:cNvSpPr/>
          <p:nvPr/>
        </p:nvSpPr>
        <p:spPr>
          <a:xfrm>
            <a:off x="1714680" y="5214960"/>
            <a:ext cx="90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daw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4"/>
          <p:cNvSpPr/>
          <p:nvPr/>
        </p:nvSpPr>
        <p:spPr>
          <a:xfrm>
            <a:off x="4786200" y="328608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tr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16"/>
          <p:cNvSpPr/>
          <p:nvPr/>
        </p:nvSpPr>
        <p:spPr>
          <a:xfrm>
            <a:off x="5357880" y="30002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j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7"/>
          <p:cNvSpPr/>
          <p:nvPr/>
        </p:nvSpPr>
        <p:spPr>
          <a:xfrm>
            <a:off x="5643720" y="271476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18"/>
          <p:cNvSpPr/>
          <p:nvPr/>
        </p:nvSpPr>
        <p:spPr>
          <a:xfrm>
            <a:off x="6300720" y="2421000"/>
            <a:ext cx="62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9"/>
          <p:cNvSpPr/>
          <p:nvPr/>
        </p:nvSpPr>
        <p:spPr>
          <a:xfrm>
            <a:off x="6787080" y="208116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z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  <a:ea typeface="Arial"/>
              </a:rPr>
              <a:t>eg</a:t>
            </a: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AU" sz="2700" spc="-1" strike="noStrike">
                <a:solidFill>
                  <a:srgbClr val="000000"/>
                </a:solidFill>
                <a:latin typeface="Lucida Sans Unicode"/>
              </a:rPr>
              <a:t>Fox </a:t>
            </a: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by Margaret Wil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Dog </a:t>
            </a:r>
            <a:r>
              <a:rPr b="1" lang="en-AU" sz="2700" spc="-1" strike="noStrike">
                <a:solidFill>
                  <a:srgbClr val="000000"/>
                </a:solidFill>
                <a:latin typeface="Lucida Sans Unicode"/>
              </a:rPr>
              <a:t>ru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Magpie and Fox </a:t>
            </a:r>
            <a:r>
              <a:rPr b="1" lang="en-AU" sz="2700" spc="-1" strike="noStrike">
                <a:solidFill>
                  <a:srgbClr val="000000"/>
                </a:solidFill>
                <a:latin typeface="Lucida Sans Unicode"/>
              </a:rPr>
              <a:t>strea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Magpie and Fox </a:t>
            </a:r>
            <a:r>
              <a:rPr b="1" lang="en-AU" sz="2700" spc="-1" strike="noStrike">
                <a:solidFill>
                  <a:srgbClr val="000000"/>
                </a:solidFill>
                <a:latin typeface="Lucida Sans Unicode"/>
              </a:rPr>
              <a:t>ri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Magpie and Fox </a:t>
            </a:r>
            <a:r>
              <a:rPr b="1" lang="en-AU" sz="2700" spc="-1" strike="noStrike">
                <a:solidFill>
                  <a:srgbClr val="000000"/>
                </a:solidFill>
                <a:latin typeface="Lucida Sans Unicode"/>
              </a:rPr>
              <a:t>pel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Fox </a:t>
            </a:r>
            <a:r>
              <a:rPr b="1" lang="en-AU" sz="2700" spc="-1" strike="noStrike">
                <a:solidFill>
                  <a:srgbClr val="000000"/>
                </a:solidFill>
                <a:latin typeface="Lucida Sans Unicode"/>
              </a:rPr>
              <a:t>scorch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Fox </a:t>
            </a:r>
            <a:r>
              <a:rPr b="1" lang="en-AU" sz="2700" spc="-1" strike="noStrike">
                <a:solidFill>
                  <a:srgbClr val="000000"/>
                </a:solidFill>
                <a:latin typeface="Lucida Sans Unicode"/>
              </a:rPr>
              <a:t>pads </a:t>
            </a: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awa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6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 txBox="1"/>
          <p:nvPr/>
        </p:nvSpPr>
        <p:spPr>
          <a:xfrm>
            <a:off x="500040" y="1285920"/>
            <a:ext cx="8229600" cy="120024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ff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Lucida Sans Unicode"/>
              </a:rPr>
              <a:t>Nouns are words used to represent people, places, ideas and things. A noun answers the question “Who?” or “What?”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Text Box 9"/>
          <p:cNvSpPr/>
          <p:nvPr/>
        </p:nvSpPr>
        <p:spPr>
          <a:xfrm>
            <a:off x="928800" y="2714760"/>
            <a:ext cx="691200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re are different types of nou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Common nouns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(girl, egg, classro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Proper nouns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(Sam, Wagga Wagg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Collective nouns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(crowd, swarm, te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Abstract nouns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(sadness, love, wond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8" descr=""/>
          <p:cNvPicPr/>
          <p:nvPr/>
        </p:nvPicPr>
        <p:blipFill>
          <a:blip r:embed="rId2"/>
          <a:stretch/>
        </p:blipFill>
        <p:spPr>
          <a:xfrm rot="20984400">
            <a:off x="2995560" y="5543280"/>
            <a:ext cx="560520" cy="792000"/>
          </a:xfrm>
          <a:prstGeom prst="rect">
            <a:avLst/>
          </a:prstGeom>
          <a:ln w="0">
            <a:noFill/>
          </a:ln>
        </p:spPr>
      </p:pic>
      <p:sp>
        <p:nvSpPr>
          <p:cNvPr id="441" name="Text Box 5"/>
          <p:cNvSpPr/>
          <p:nvPr/>
        </p:nvSpPr>
        <p:spPr>
          <a:xfrm>
            <a:off x="3649680" y="5786280"/>
            <a:ext cx="528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000000"/>
                </a:solidFill>
                <a:latin typeface="Arial"/>
              </a:rPr>
              <a:t>Ref English Syllabus –Glossary definition page 96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457200" y="11430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  <a:ea typeface="Arial"/>
              </a:rPr>
              <a:t>A group of words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  <a:ea typeface="Arial"/>
              </a:rPr>
              <a:t>representing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  <a:ea typeface="Arial"/>
              </a:rPr>
              <a:t>who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  <a:ea typeface="Arial"/>
              </a:rPr>
              <a:t>what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  <a:ea typeface="Arial"/>
              </a:rPr>
              <a:t> is involved. It may include different types of articles (a, an, the), adjectives (describers),nouns linked together, adjectival phrases and clause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666f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Lucida Sans Unicode"/>
              </a:rPr>
              <a:t>Before the nou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6666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Lucida Sans Unicode"/>
              </a:rPr>
              <a:t>eg   </a:t>
            </a:r>
            <a:r>
              <a:rPr b="0" i="1" lang="en-AU" sz="2800" spc="-1" strike="noStrike" u="sng">
                <a:solidFill>
                  <a:srgbClr val="000000"/>
                </a:solidFill>
                <a:uFillTx/>
                <a:latin typeface="Lucida Sans Unicode"/>
              </a:rPr>
              <a:t>The pretty little </a:t>
            </a:r>
            <a:r>
              <a:rPr b="1" i="1" lang="en-AU" sz="2800" spc="-1" strike="noStrike" u="sng">
                <a:solidFill>
                  <a:srgbClr val="000000"/>
                </a:solidFill>
                <a:uFillTx/>
                <a:latin typeface="Lucida Sans Unicode"/>
              </a:rPr>
              <a:t>girl</a:t>
            </a:r>
            <a:r>
              <a:rPr b="0" i="1" lang="en-AU" sz="2800" spc="-1" strike="noStrike">
                <a:solidFill>
                  <a:srgbClr val="000000"/>
                </a:solidFill>
                <a:latin typeface="Lucida Sans Unicode"/>
              </a:rPr>
              <a:t> rode </a:t>
            </a:r>
            <a:r>
              <a:rPr b="0" i="1" lang="en-AU" sz="2800" spc="-1" strike="noStrike" u="sng">
                <a:solidFill>
                  <a:srgbClr val="000000"/>
                </a:solidFill>
                <a:uFillTx/>
                <a:latin typeface="Lucida Sans Unicode"/>
              </a:rPr>
              <a:t>her shiny new mountain </a:t>
            </a:r>
            <a:r>
              <a:rPr b="1" i="1" lang="en-AU" sz="2800" spc="-1" strike="noStrike" u="sng">
                <a:solidFill>
                  <a:srgbClr val="000000"/>
                </a:solidFill>
                <a:uFillTx/>
                <a:latin typeface="Lucida Sans Unicode"/>
              </a:rPr>
              <a:t>bike</a:t>
            </a:r>
            <a:r>
              <a:rPr b="0" i="1" lang="en-AU" sz="2800" spc="-1" strike="noStrike" u="sng">
                <a:solidFill>
                  <a:srgbClr val="000000"/>
                </a:solidFill>
                <a:uFillTx/>
                <a:latin typeface="Lucida Sans Unicod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666f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Lucida Sans Unicode"/>
              </a:rPr>
              <a:t>After the nou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6666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Lucida Sans Unicode"/>
              </a:rPr>
              <a:t>eg   </a:t>
            </a:r>
            <a:r>
              <a:rPr b="0" i="1" lang="en-AU" sz="2800" spc="-1" strike="noStrike" u="sng">
                <a:solidFill>
                  <a:srgbClr val="000000"/>
                </a:solidFill>
                <a:uFillTx/>
                <a:latin typeface="Lucida Sans Unicode"/>
              </a:rPr>
              <a:t>The pretty little </a:t>
            </a:r>
            <a:r>
              <a:rPr b="1" i="1" lang="en-AU" sz="2800" spc="-1" strike="noStrike" u="sng">
                <a:solidFill>
                  <a:srgbClr val="000000"/>
                </a:solidFill>
                <a:uFillTx/>
                <a:latin typeface="Lucida Sans Unicode"/>
              </a:rPr>
              <a:t>girl</a:t>
            </a:r>
            <a:r>
              <a:rPr b="0" i="1" lang="en-AU" sz="2800" spc="-1" strike="noStrike" u="sng">
                <a:solidFill>
                  <a:srgbClr val="000000"/>
                </a:solidFill>
                <a:uFillTx/>
                <a:latin typeface="Lucida Sans Unicode"/>
              </a:rPr>
              <a:t> with long brown hair</a:t>
            </a:r>
            <a:r>
              <a:rPr b="0" i="1" lang="en-AU" sz="2800" spc="-1" strike="noStrike">
                <a:solidFill>
                  <a:srgbClr val="000000"/>
                </a:solidFill>
                <a:latin typeface="Lucida Sans Unicode"/>
              </a:rPr>
              <a:t> rode </a:t>
            </a:r>
            <a:r>
              <a:rPr b="0" i="1" lang="en-AU" sz="2800" spc="-1" strike="noStrike" u="sng">
                <a:solidFill>
                  <a:srgbClr val="000000"/>
                </a:solidFill>
                <a:uFillTx/>
                <a:latin typeface="Lucida Sans Unicode"/>
              </a:rPr>
              <a:t>her mountain bike</a:t>
            </a:r>
            <a:r>
              <a:rPr b="0" i="1" lang="en-AU" sz="28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3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5" descr=""/>
          <p:cNvPicPr/>
          <p:nvPr/>
        </p:nvPicPr>
        <p:blipFill>
          <a:blip r:embed="rId2"/>
          <a:stretch/>
        </p:blipFill>
        <p:spPr>
          <a:xfrm rot="20984400">
            <a:off x="417240" y="5897520"/>
            <a:ext cx="515880" cy="728640"/>
          </a:xfrm>
          <a:prstGeom prst="rect">
            <a:avLst/>
          </a:prstGeom>
          <a:ln w="0">
            <a:noFill/>
          </a:ln>
        </p:spPr>
      </p:pic>
      <p:sp>
        <p:nvSpPr>
          <p:cNvPr id="445" name="Text Box 4"/>
          <p:cNvSpPr/>
          <p:nvPr/>
        </p:nvSpPr>
        <p:spPr>
          <a:xfrm>
            <a:off x="983520" y="5877000"/>
            <a:ext cx="300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000000"/>
                </a:solidFill>
                <a:latin typeface="Arial"/>
              </a:rPr>
              <a:t>Ref English Sylla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000000"/>
                </a:solidFill>
                <a:latin typeface="Arial"/>
              </a:rPr>
              <a:t>Glossary definition page 96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9" descr=""/>
          <p:cNvPicPr/>
          <p:nvPr/>
        </p:nvPicPr>
        <p:blipFill>
          <a:blip r:embed="rId3"/>
          <a:stretch/>
        </p:blipFill>
        <p:spPr>
          <a:xfrm rot="20716800">
            <a:off x="4211280" y="5805360"/>
            <a:ext cx="523800" cy="719280"/>
          </a:xfrm>
          <a:prstGeom prst="rect">
            <a:avLst/>
          </a:prstGeom>
          <a:ln w="0">
            <a:noFill/>
          </a:ln>
        </p:spPr>
      </p:pic>
      <p:sp>
        <p:nvSpPr>
          <p:cNvPr id="447" name="Text Box 8"/>
          <p:cNvSpPr/>
          <p:nvPr/>
        </p:nvSpPr>
        <p:spPr>
          <a:xfrm>
            <a:off x="4863600" y="5877000"/>
            <a:ext cx="404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000000"/>
                </a:solidFill>
                <a:latin typeface="Arial"/>
              </a:rPr>
              <a:t>Ref “A Grammar Companion” page 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000000"/>
                </a:solidFill>
                <a:latin typeface="Arial"/>
              </a:rPr>
              <a:t>Wind in the Willows extract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457200" y="2643120"/>
            <a:ext cx="8229600" cy="33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Select the noun groups from the sentenc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9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phrase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s a group of words that forms part of a sentence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es not contain a ver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g  the girl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with long hai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book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on the tabl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Late last night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e looked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in the hous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e met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at five o’clock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After school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e crossed the road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with car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7f7f7f"/>
                </a:solidFill>
                <a:uFillTx/>
                <a:latin typeface="Arial"/>
              </a:rPr>
              <a:t>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What is the difference between a clause and a phrase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0000"/>
                </a:solidFill>
                <a:latin typeface="Arial"/>
                <a:ea typeface="Arial"/>
              </a:rPr>
              <a:t>Activity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  <a:ea typeface="Arial"/>
              </a:rPr>
              <a:t>Sort the independent clauses and phrases into 2 group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3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  <a:ea typeface="Arial"/>
              </a:rPr>
              <a:t>the simple sentenc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  <a:ea typeface="Arial"/>
              </a:rPr>
              <a:t>the independent claus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  <a:ea typeface="Arial"/>
              </a:rPr>
              <a:t>verb/verb group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  <a:ea typeface="Arial"/>
              </a:rPr>
              <a:t>noun/noun group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  <a:ea typeface="Arial"/>
              </a:rPr>
              <a:t>clauses and phrases</a:t>
            </a:r>
            <a:br>
              <a:rPr sz="2800"/>
            </a:b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g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iranda held the book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b -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eld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ject –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irand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Who or wha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el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 –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book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ject may be impli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Go!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 may not be need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he ran.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1571760"/>
            <a:ext cx="822960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  <a:ea typeface="Arial"/>
              </a:rPr>
              <a:t>a) Ian Thorpe lived in Australia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  <a:ea typeface="Arial"/>
              </a:rPr>
              <a:t>b) The extraordinarily fast, gold medal winner, Ian Thorpe, lived in Australia  with his mum, dad and sister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1643040"/>
            <a:ext cx="82296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  <a:ea typeface="Arial"/>
              </a:rPr>
              <a:t>A simple sentence has only one verb/verb group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  <a:ea typeface="Arial"/>
              </a:rPr>
              <a:t>A simple sentence is an independent clause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  <a:ea typeface="Arial"/>
              </a:rPr>
              <a:t>An independent clause is the 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  <a:ea typeface="Arial"/>
              </a:rPr>
              <a:t>basic unit of meaning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  <a:ea typeface="Arial"/>
              </a:rPr>
              <a:t> in English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6011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0000"/>
                </a:solidFill>
                <a:latin typeface="Lucida Sans Unicode"/>
              </a:rPr>
              <a:t>Can stand on its own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0000"/>
                </a:solidFill>
                <a:latin typeface="Lucida Sans Unicode"/>
              </a:rPr>
              <a:t>Makes complete sense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0000"/>
                </a:solidFill>
                <a:latin typeface="Lucida Sans Unicode"/>
              </a:rPr>
              <a:t>Has only </a:t>
            </a:r>
            <a:r>
              <a:rPr b="0" i="1" lang="en-AU" sz="4400" spc="-1" strike="noStrike">
                <a:solidFill>
                  <a:srgbClr val="ff0000"/>
                </a:solidFill>
                <a:latin typeface="Lucida Sans Unicode"/>
              </a:rPr>
              <a:t>one</a:t>
            </a:r>
            <a:r>
              <a:rPr b="0" lang="en-AU" sz="4400" spc="-1" strike="noStrike">
                <a:solidFill>
                  <a:srgbClr val="ff0000"/>
                </a:solidFill>
                <a:latin typeface="Lucida Sans Unicode"/>
              </a:rPr>
              <a:t> verb or 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0000"/>
                </a:solidFill>
                <a:latin typeface="Lucida Sans Unicode"/>
              </a:rPr>
              <a:t>verb group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571760"/>
            <a:ext cx="822960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  <a:ea typeface="Arial"/>
              </a:rPr>
              <a:t>a) Ian Thorpe lived in Australia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  <a:ea typeface="Arial"/>
              </a:rPr>
              <a:t>b) The extraordinarily fast, gold medal winner, Ian Thorpe, lived in Australia  with his mum, dad and sister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2T03:59:17Z</dcterms:created>
  <dc:creator>mmawer</dc:creator>
  <dc:description/>
  <dc:language>en-US</dc:language>
  <cp:lastModifiedBy>mmawer</cp:lastModifiedBy>
  <dcterms:modified xsi:type="dcterms:W3CDTF">2010-07-23T00:11:21Z</dcterms:modified>
  <cp:revision>51</cp:revision>
  <dc:subject/>
  <dc:title>Simple sentences</dc:title>
</cp:coreProperties>
</file>